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F09-1EB7-4CCC-88C9-839F141B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52C-91B7-4F92-AF27-0F4A6181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837-EEDD-48E9-BC37-188DBE0C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7EA-7181-47EE-B78C-8FF97BC1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4A49-08C4-42F9-9E61-EBD0125C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0917-9563-4955-ABCC-42FDF19E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BC0B-1F33-45EB-B1A4-B3F27E8A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9557-4775-40AF-BF5B-316557AC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F2A5-10C4-46E5-B393-E8D6F3D2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269A-DA0A-46EC-856E-067E2F9C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0A1A-941C-4306-9A23-7DB6A798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4D9-6DED-4E55-9537-89C88908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E83F-4E2D-4655-837E-7041063C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1088-AF0F-4F01-B0FA-7F4CAC7C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CC7B-BAB4-4EC9-BE84-A8815E18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4545-76E2-4531-87B5-FA979688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788B-810A-420C-A2C4-9D29638B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31F-46F7-4031-95EF-08B4A468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70F-593E-422D-B6CB-231033EA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357-1B4E-40B5-BD0C-6DE0CC39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191-2B99-4054-AA90-BFB63BD8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9C8-1919-4111-9AAF-6ED66DC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1FF-97A2-4B71-8C97-DBA81017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D0F-B6B0-4285-AC13-76B0CB88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5F84-4FCE-49B5-A000-3A3DE493BA1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8F48-ABB7-42F6-B8CE-430DF6B1DA9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健康知识与行为的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影响因素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健康教育能力建设课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14300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03280" y="836640"/>
            <a:ext cx="68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信息传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察觉信息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视而不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知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毫无兴趣                引起兴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感到需要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与己无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认真思考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可有可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相信信息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怀疑信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产生动机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侥幸心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尝试行动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犹豫不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坚持行为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无法坚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行为确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112536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162864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21337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27082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33577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386064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43657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79640" y="49417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51664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105264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1628640"/>
            <a:ext cx="8384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220500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270828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84360" y="328464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3860640"/>
            <a:ext cx="8384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437000"/>
            <a:ext cx="83808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501336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11430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28954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4956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61722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553080" y="114264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553080" y="289548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380988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553080" y="44956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54100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行为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5640" y="1752120"/>
            <a:ext cx="748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在因素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资源与环境条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价格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风俗习惯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政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分组讨论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以当地某健康问题为例，讨论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目标人群需要掌握的知识、行为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影响知识、行为的因素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分组汇报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内容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69640" y="1699920"/>
            <a:ext cx="714708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健康知识与行为对健康的意义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健康知识与行为的影响因素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个人因素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环境因素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435640" y="2781360"/>
          <a:ext cx="2617920" cy="31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781360"/>
                    <a:ext cx="261792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影响健康的因素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82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遗传生物因素                 行为生活方式因素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健康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环境因素                               卫生服务因素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92320" y="2503440"/>
            <a:ext cx="4711680" cy="26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9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知识与行为的作用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增强个人和家庭卫生，预防重大传染病、寄生虫病及地方病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改变生活方式，预防慢性非传染性疾病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积极利用卫生保健服务：计划免疫、定期体检、及时就诊、合理用药等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52480" y="3733920"/>
            <a:ext cx="685800" cy="144756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371600"/>
            <a:ext cx="685800" cy="17524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286000"/>
            <a:ext cx="533520" cy="2133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680" y="2514600"/>
            <a:ext cx="1155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健康促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13716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内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876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外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1936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知识、信念 态度、价值观、技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12952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18288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2666880"/>
            <a:ext cx="914400" cy="1447920"/>
          </a:xfrm>
          <a:prstGeom prst="ellipse">
            <a:avLst/>
          </a:prstGeom>
          <a:solidFill>
            <a:srgbClr val="a7f7b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1371600"/>
            <a:ext cx="16002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581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政策、财政    药物、卫生服务环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35812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1240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12952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295280"/>
            <a:ext cx="6858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35812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48769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54100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52880" y="3581280"/>
            <a:ext cx="6858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53760" y="2819520"/>
            <a:ext cx="1399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行为</a:t>
            </a:r>
            <a:r>
              <a:rPr b="1" lang="zh-CN" sz="3600" spc="-1" strike="noStrike">
                <a:solidFill>
                  <a:srgbClr val="00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819520"/>
            <a:ext cx="16002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267080"/>
            <a:ext cx="16002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1447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取措施预防疾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2895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认识疾病及时就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42670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配合治疗积极康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6280" y="1676520"/>
            <a:ext cx="91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健康教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13280" y="3809880"/>
            <a:ext cx="12776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政府领导部门配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514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114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20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33526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95880" y="1828800"/>
            <a:ext cx="83844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4114800"/>
            <a:ext cx="83844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知识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16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人与家庭因素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得不到健康信息：缺乏获得信息的途径和资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关注健康信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对健康信息不理解、记不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  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00400" y="2514600"/>
            <a:ext cx="0" cy="2438280"/>
          </a:xfrm>
          <a:prstGeom prst="line">
            <a:avLst/>
          </a:prstGeom>
          <a:ln w="7632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638320" y="2057400"/>
            <a:ext cx="457560" cy="3276720"/>
            <a:chOff x="5638320" y="2057400"/>
            <a:chExt cx="457560" cy="3276720"/>
          </a:xfrm>
        </p:grpSpPr>
        <p:sp>
          <p:nvSpPr>
            <p:cNvPr id="197" name=""/>
            <p:cNvSpPr/>
            <p:nvPr/>
          </p:nvSpPr>
          <p:spPr>
            <a:xfrm>
              <a:off x="5867280" y="2514600"/>
              <a:ext cx="0" cy="2438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638320" y="205740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67280" y="205740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866920" y="487692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638680" y="487692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知识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5640" y="1752120"/>
            <a:ext cx="748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在因素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提供健康信息的途径、方法、时间不符合人群的特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健康信息的针对性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使用的材料不符合目标人群的特点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 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行为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16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人与家庭因素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乏健康观念与知识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乏基本的卫生、健康技能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乏采纳健康行为的资源与条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8:18:57Z</dcterms:created>
  <dc:creator>sun</dc:creator>
  <dc:description/>
  <dc:language>en-US</dc:language>
  <cp:lastModifiedBy>DuanYong</cp:lastModifiedBy>
  <dcterms:modified xsi:type="dcterms:W3CDTF">2010-02-23T03:40:41Z</dcterms:modified>
  <cp:revision>59</cp:revision>
  <dc:subject/>
  <dc:title>健康传播</dc:title>
</cp:coreProperties>
</file>